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B5C-3F9F-4F71-9F40-0FF45B87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6676-B932-4A93-A157-CD2D7FD5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E3A-4432-4177-9770-7A4F4C47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99BD-1618-412F-9B85-DD20467C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68DF-9173-4DC2-96D4-A86CA37D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4A9-008C-47BF-878D-B8831AA8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8653-4133-4DB3-BE2F-FDD5363B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E292-A4C2-4BE4-B491-A2421802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D85F-1209-465D-B6C2-6E928E90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0B7-7B89-4BCA-B956-2823E5A1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EBD0-4372-455B-BB19-C6A4ED96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0804-509D-4E2A-8531-4E5E3D5C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1462-EA05-4086-9862-EDE966254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048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21:01:58Z</dcterms:created>
  <dc:creator>Colossus User</dc:creator>
  <dc:description/>
  <dc:language>en-US</dc:language>
  <cp:lastModifiedBy>Colossus User</cp:lastModifiedBy>
  <dcterms:modified xsi:type="dcterms:W3CDTF">2010-09-21T21:02:16Z</dcterms:modified>
  <cp:revision>2</cp:revision>
  <dc:subject/>
  <dc:title>Diapositiva 1</dc:title>
</cp:coreProperties>
</file>